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849-9A5F-44AB-8455-C9C974DD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1B1-5971-4916-AE64-B273F2E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109-E684-4A14-9273-D265AA83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ECE-8C46-425A-834A-4541A3F2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55D5-D440-4C14-9BC1-FD42DE30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FD04-6B31-4E05-9AB4-51A34F0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A559-86F4-4BE0-94C9-B4DA277C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D16-EEC8-4567-8873-A499487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8A6E-5E1E-4208-B8AE-364C0800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AD9-C6FA-4377-B688-42D14261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0668-5CAE-4912-BBB7-043F82E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8CD-AAFD-424C-AF44-B402A7B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CB63-6456-458B-B071-7AEA211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D93F-F3AD-47E3-81E8-094D013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E0D3-61B2-4AFE-959C-A80DD9DA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3AB-76E4-4FC9-94CA-F9199517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A254-C53C-4AAD-8234-78F5C419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5E7DF-E78B-4688-BABA-67C48821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95299-A02A-4262-85EA-51C80BD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625EB-92D2-446F-9E42-81B4413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05F13-02C9-44BD-A774-EE2B5EF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C89BA-08F3-4CFB-AAC4-CB423DD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A33-785C-42A5-9C6E-228F7961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22438-EA00-4748-9559-D441EB0F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47CD5-4DD2-41B9-A062-5FB071D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9179C-1DB4-4076-BCDB-8006D58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1F744-E1E2-4D33-A328-9C1C88F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A5850-C56A-4CE3-99A9-32A225B7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84993-EDC3-4DC3-817C-916861C1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3878C-670E-4C3C-9C06-60984FD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2FC5-2191-44E5-AED5-FA931CD5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0835-9E22-4290-B7D8-F93A7BB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AECB-8ADF-4FAA-B379-0B4A7CD1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CCF-6BD9-45C1-9304-A1B6B8C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AF25-8643-41D3-A5F3-18AABEE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570F-9C49-4CCB-A8C7-7B22FB8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B5BF-60E4-4E40-B722-AF2912E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AE86-3E13-473C-81BD-7F89EC5A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38C7-46B0-457F-8F3F-15B63AA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32AC-4C7D-4537-AF85-7D0BBD4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6FA1-A4F9-4A6A-A8DA-BE5C36A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2780-AAF4-46D0-9282-6CD5CA05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456F-7115-4A78-9D3D-F8CCC974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B21-5AB9-4693-8B6D-B837AD28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B68-248C-4093-924F-A141615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A0F-2990-4EEB-97B4-F73CC73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37C-B6E6-4697-B36E-E657168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C23-4690-4E35-826A-A910CFD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962-F65C-441A-A9C4-364828550B5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CB7-08A3-4CFE-B5A3-3A7A5595844A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8B0C-2075-4A30-A799-DD2A275C0AFA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C0B-C3B7-478D-9A28-13561D601C6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Mnożenie pisemne przez liczbę jednocyfrową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3059280" y="4797360"/>
            <a:ext cx="34956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zapisujemy oba czynniki w słupku, a iloczyn pod kreską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2 = 4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3 = 6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ynik mnożenia </a:t>
            </a:r>
            <a:r>
              <a:rPr b="1" lang="pl-PL" sz="2000" spc="-1" strike="noStrike">
                <a:solidFill>
                  <a:srgbClr val="000000"/>
                </a:solidFill>
                <a:latin typeface="Georgia"/>
              </a:rPr>
              <a:t>32 · 2 = 6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27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2" name="Grupa 22"/>
          <p:cNvGrpSpPr/>
          <p:nvPr/>
        </p:nvGrpSpPr>
        <p:grpSpPr>
          <a:xfrm>
            <a:off x="6872400" y="4805280"/>
            <a:ext cx="1081080" cy="800640"/>
            <a:chOff x="6872400" y="4805280"/>
            <a:chExt cx="1081080" cy="800640"/>
          </a:xfrm>
        </p:grpSpPr>
        <p:sp>
          <p:nvSpPr>
            <p:cNvPr id="233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pole tekstowe 18"/>
            <p:cNvSpPr/>
            <p:nvPr/>
          </p:nvSpPr>
          <p:spPr>
            <a:xfrm>
              <a:off x="7355880" y="5011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Łącznik prostoliniowy 19"/>
            <p:cNvSpPr/>
            <p:nvPr/>
          </p:nvSpPr>
          <p:spPr>
            <a:xfrm>
              <a:off x="6872400" y="53096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pole tekstowe 20"/>
            <p:cNvSpPr/>
            <p:nvPr/>
          </p:nvSpPr>
          <p:spPr>
            <a:xfrm>
              <a:off x="6952320" y="4956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pole tekstowe 21"/>
            <p:cNvSpPr/>
            <p:nvPr/>
          </p:nvSpPr>
          <p:spPr>
            <a:xfrm>
              <a:off x="7349040" y="5237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8" name="pole tekstowe 23"/>
          <p:cNvSpPr/>
          <p:nvPr/>
        </p:nvSpPr>
        <p:spPr>
          <a:xfrm>
            <a:off x="712692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Elipsa 3"/>
          <p:cNvSpPr/>
          <p:nvPr/>
        </p:nvSpPr>
        <p:spPr>
          <a:xfrm>
            <a:off x="7408800" y="3573360"/>
            <a:ext cx="24948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Elipsa 4"/>
          <p:cNvSpPr/>
          <p:nvPr/>
        </p:nvSpPr>
        <p:spPr>
          <a:xfrm rot="19501800">
            <a:off x="7288200" y="4851000"/>
            <a:ext cx="222120" cy="5032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5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5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6 · 2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2 · 4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 · 3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75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5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75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75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46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2 = 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a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jednośc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jedności w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mnożymy 6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rzez dziesiątki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4 = 2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dodajemy dodatkową 1 dziesiątkę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które powstały z jedności;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 + 1 = 2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nieważ w rzędzie setek nie mamy cyfr,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52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54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55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9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23"/>
          <p:cNvSpPr/>
          <p:nvPr/>
        </p:nvSpPr>
        <p:spPr>
          <a:xfrm>
            <a:off x="694584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ole tekstowe 26"/>
          <p:cNvSpPr/>
          <p:nvPr/>
        </p:nvSpPr>
        <p:spPr>
          <a:xfrm>
            <a:off x="7152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2" name="Grupa 3"/>
          <p:cNvGrpSpPr/>
          <p:nvPr/>
        </p:nvGrpSpPr>
        <p:grpSpPr>
          <a:xfrm>
            <a:off x="6872400" y="4581360"/>
            <a:ext cx="1081080" cy="1024920"/>
            <a:chOff x="6872400" y="4581360"/>
            <a:chExt cx="1081080" cy="1024920"/>
          </a:xfrm>
        </p:grpSpPr>
        <p:grpSp>
          <p:nvGrpSpPr>
            <p:cNvPr id="263" name="Grupa 22"/>
            <p:cNvGrpSpPr/>
            <p:nvPr/>
          </p:nvGrpSpPr>
          <p:grpSpPr>
            <a:xfrm>
              <a:off x="6872400" y="4806000"/>
              <a:ext cx="1081080" cy="800280"/>
              <a:chOff x="6872400" y="4806000"/>
              <a:chExt cx="1081080" cy="800280"/>
            </a:xfrm>
          </p:grpSpPr>
          <p:sp>
            <p:nvSpPr>
              <p:cNvPr id="264" name="pole tekstowe 17"/>
              <p:cNvSpPr/>
              <p:nvPr/>
            </p:nvSpPr>
            <p:spPr>
              <a:xfrm>
                <a:off x="7158600" y="480600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4 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pole tekstowe 18"/>
              <p:cNvSpPr/>
              <p:nvPr/>
            </p:nvSpPr>
            <p:spPr>
              <a:xfrm>
                <a:off x="7355880" y="501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6" name="Łącznik prostoliniowy 19"/>
              <p:cNvSpPr/>
              <p:nvPr/>
            </p:nvSpPr>
            <p:spPr>
              <a:xfrm>
                <a:off x="6872400" y="5310000"/>
                <a:ext cx="10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pole tekstowe 20"/>
              <p:cNvSpPr/>
              <p:nvPr/>
            </p:nvSpPr>
            <p:spPr>
              <a:xfrm>
                <a:off x="6952320" y="495720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8" name="pole tekstowe 21"/>
              <p:cNvSpPr/>
              <p:nvPr/>
            </p:nvSpPr>
            <p:spPr>
              <a:xfrm>
                <a:off x="7349040" y="5238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9" name="pole tekstowe 27"/>
            <p:cNvSpPr/>
            <p:nvPr/>
          </p:nvSpPr>
          <p:spPr>
            <a:xfrm>
              <a:off x="7161480" y="4581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0" name="pole tekstowe 28"/>
          <p:cNvSpPr/>
          <p:nvPr/>
        </p:nvSpPr>
        <p:spPr>
          <a:xfrm>
            <a:off x="6926760" y="459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9"/>
          <p:cNvSpPr/>
          <p:nvPr/>
        </p:nvSpPr>
        <p:spPr>
          <a:xfrm>
            <a:off x="714276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6 · 6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25 · 7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3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77 · 3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5" descr=""/>
          <p:cNvPicPr/>
          <p:nvPr/>
        </p:nvPicPr>
        <p:blipFill>
          <a:blip r:embed="rId1"/>
          <a:srcRect l="13996" t="22486" r="2451" b="3104"/>
          <a:stretch/>
        </p:blipFill>
        <p:spPr>
          <a:xfrm>
            <a:off x="4390920" y="2004840"/>
            <a:ext cx="4523040" cy="4053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trzy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761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rzez 8 mnoży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7 = 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6 jednoś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6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5 dziesiątek 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przez 8 mnożymy dziesiątki: 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2 = 1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amiętamy o 5 dziesiątkach, które powstały z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 + 5 = 21,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21 to 2 setki i 1 dziesiątka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dziesiątek zapisujemy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dopisujemy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 rzędu setek. 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teraz mnoży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przez setk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: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1 = 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pamiętamy o 2 setkach, które powst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dziesiątek 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+ 2 = 1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se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w rzędzie tysięc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onieważ w rzędzie tysięcy nie ma żadnych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stąd mamy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6"/>
          <p:cNvSpPr/>
          <p:nvPr/>
        </p:nvSpPr>
        <p:spPr>
          <a:xfrm>
            <a:off x="6844320" y="2227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ole tekstowe 7"/>
          <p:cNvSpPr/>
          <p:nvPr/>
        </p:nvSpPr>
        <p:spPr>
          <a:xfrm>
            <a:off x="7225200" y="242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1" name="Grupa 24"/>
          <p:cNvGrpSpPr/>
          <p:nvPr/>
        </p:nvGrpSpPr>
        <p:grpSpPr>
          <a:xfrm>
            <a:off x="6678720" y="2373480"/>
            <a:ext cx="1144440" cy="398880"/>
            <a:chOff x="6678720" y="2373480"/>
            <a:chExt cx="1144440" cy="398880"/>
          </a:xfrm>
        </p:grpSpPr>
        <p:sp>
          <p:nvSpPr>
            <p:cNvPr id="282" name="Łącznik prostoliniowy 9"/>
            <p:cNvSpPr/>
            <p:nvPr/>
          </p:nvSpPr>
          <p:spPr>
            <a:xfrm>
              <a:off x="6742800" y="272628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3" name="pole tekstowe 11"/>
            <p:cNvSpPr/>
            <p:nvPr/>
          </p:nvSpPr>
          <p:spPr>
            <a:xfrm>
              <a:off x="6678720" y="2373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4" name="Grupa 25"/>
          <p:cNvGrpSpPr/>
          <p:nvPr/>
        </p:nvGrpSpPr>
        <p:grpSpPr>
          <a:xfrm>
            <a:off x="6678720" y="3071880"/>
            <a:ext cx="1144440" cy="588600"/>
            <a:chOff x="6678720" y="3071880"/>
            <a:chExt cx="1144440" cy="588600"/>
          </a:xfrm>
        </p:grpSpPr>
        <p:sp>
          <p:nvSpPr>
            <p:cNvPr id="285" name="pole tekstowe 12"/>
            <p:cNvSpPr/>
            <p:nvPr/>
          </p:nvSpPr>
          <p:spPr>
            <a:xfrm>
              <a:off x="6844680" y="307188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pole tekstowe 13"/>
            <p:cNvSpPr/>
            <p:nvPr/>
          </p:nvSpPr>
          <p:spPr>
            <a:xfrm>
              <a:off x="7225920" y="329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Łącznik prostoliniowy 14"/>
            <p:cNvSpPr/>
            <p:nvPr/>
          </p:nvSpPr>
          <p:spPr>
            <a:xfrm>
              <a:off x="6742800" y="358920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8" name="pole tekstowe 15"/>
            <p:cNvSpPr/>
            <p:nvPr/>
          </p:nvSpPr>
          <p:spPr>
            <a:xfrm>
              <a:off x="6678720" y="323712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9" name="pole tekstowe 16"/>
          <p:cNvSpPr/>
          <p:nvPr/>
        </p:nvSpPr>
        <p:spPr>
          <a:xfrm>
            <a:off x="7219080" y="35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3"/>
          <p:cNvSpPr/>
          <p:nvPr/>
        </p:nvSpPr>
        <p:spPr>
          <a:xfrm>
            <a:off x="681264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26"/>
          <p:cNvSpPr/>
          <p:nvPr/>
        </p:nvSpPr>
        <p:spPr>
          <a:xfrm>
            <a:off x="70189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upa 3"/>
          <p:cNvGrpSpPr/>
          <p:nvPr/>
        </p:nvGrpSpPr>
        <p:grpSpPr>
          <a:xfrm>
            <a:off x="6516720" y="4103640"/>
            <a:ext cx="1303200" cy="1016280"/>
            <a:chOff x="6516720" y="4103640"/>
            <a:chExt cx="1303200" cy="1016280"/>
          </a:xfrm>
        </p:grpSpPr>
        <p:grpSp>
          <p:nvGrpSpPr>
            <p:cNvPr id="293" name="Grupa 22"/>
            <p:cNvGrpSpPr/>
            <p:nvPr/>
          </p:nvGrpSpPr>
          <p:grpSpPr>
            <a:xfrm>
              <a:off x="6516720" y="4338000"/>
              <a:ext cx="1303200" cy="781920"/>
              <a:chOff x="6516720" y="4338000"/>
              <a:chExt cx="1303200" cy="781920"/>
            </a:xfrm>
          </p:grpSpPr>
          <p:sp>
            <p:nvSpPr>
              <p:cNvPr id="294" name="pole tekstowe 17"/>
              <p:cNvSpPr/>
              <p:nvPr/>
            </p:nvSpPr>
            <p:spPr>
              <a:xfrm>
                <a:off x="6799680" y="4338000"/>
                <a:ext cx="7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1 2 7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5" name="pole tekstowe 18"/>
              <p:cNvSpPr/>
              <p:nvPr/>
            </p:nvSpPr>
            <p:spPr>
              <a:xfrm>
                <a:off x="7193160" y="4525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6" name="Łącznik prostoliniowy 19"/>
              <p:cNvSpPr/>
              <p:nvPr/>
            </p:nvSpPr>
            <p:spPr>
              <a:xfrm>
                <a:off x="6516720" y="4822920"/>
                <a:ext cx="130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7" name="pole tekstowe 20"/>
              <p:cNvSpPr/>
              <p:nvPr/>
            </p:nvSpPr>
            <p:spPr>
              <a:xfrm>
                <a:off x="6678720" y="446976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8" name="pole tekstowe 21"/>
              <p:cNvSpPr/>
              <p:nvPr/>
            </p:nvSpPr>
            <p:spPr>
              <a:xfrm>
                <a:off x="7211520" y="475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99" name="pole tekstowe 27"/>
            <p:cNvSpPr/>
            <p:nvPr/>
          </p:nvSpPr>
          <p:spPr>
            <a:xfrm>
              <a:off x="6998040" y="4103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0" name="pole tekstowe 28"/>
          <p:cNvSpPr/>
          <p:nvPr/>
        </p:nvSpPr>
        <p:spPr>
          <a:xfrm>
            <a:off x="6793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ole tekstowe 29"/>
          <p:cNvSpPr/>
          <p:nvPr/>
        </p:nvSpPr>
        <p:spPr>
          <a:xfrm>
            <a:off x="700956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ole tekstowe 30"/>
          <p:cNvSpPr/>
          <p:nvPr/>
        </p:nvSpPr>
        <p:spPr>
          <a:xfrm>
            <a:off x="6577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ole tekstowe 31"/>
          <p:cNvSpPr/>
          <p:nvPr/>
        </p:nvSpPr>
        <p:spPr>
          <a:xfrm>
            <a:off x="6577560" y="474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6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32 · 6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53 · 8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7:24Z</dcterms:modified>
  <cp:revision>28</cp:revision>
  <dc:subject/>
  <dc:title>Prezentacja programu PowerPoint</dc:title>
</cp:coreProperties>
</file>